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C62-1E9E-472A-BD21-97BAEC64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716-7073-47C3-86CA-92F289E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C75-F4D1-47CD-AAFA-24069D62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48A-8B28-4A53-84AE-E43EC4B1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067-2917-4A37-A365-D018256D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35A-629C-4759-97D6-3F88537B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780-9D6A-4442-B2D4-C4DF10C9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6AF-8E5F-44C0-BE42-5AB44C63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477-F0C5-401F-8EC2-A4161F3A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243-66D6-41CD-BBE5-48A3FA93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47B-FB19-4B7B-86C7-9C13E4D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6C1-D44F-4793-A506-646BCBB3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84F4-7AAE-49F8-8CFF-14AAECE2B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600520" cy="393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5640" y="1197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ase I and Teloph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2205000"/>
            <a:ext cx="208944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372000" y="1628640"/>
            <a:ext cx="43164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18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661000"/>
            <a:ext cx="54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anselm.edu/homepage/jpitocch/genbio/meiosisphas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ase I begins when the two homologous chromosomes of each bivalent separate and start moving toward opposite poles of the cell as a result of the action of the spindl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in anaphase I the sister chromatids remain attached at their centromeres and move together toward the poles. This is the key difference between mitosis and meiosis after the first meta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256360" cy="252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19280" y="4724280"/>
            <a:ext cx="61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phschool.com/science/biology_place/biocoach/meiosis/ana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elophase I a haploid set of chromosomes is at each pole, with each chromosome still having two chromatids. A nuclear envelope reforms around each chromosome set, the spindle disappears, and cytokinesis foll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cells that undergo rapid meiosis do not decondense the chromosomes at the end of telophase I and move on to meiosis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4896000" cy="234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92360" y="5084640"/>
            <a:ext cx="61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phschool.com/science/biology_place/biocoach/meiosis/ana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8:44:46Z</dcterms:created>
  <dc:creator>Your User Name</dc:creator>
  <dc:description/>
  <dc:language>en-US</dc:language>
  <cp:lastModifiedBy>Your User Name</cp:lastModifiedBy>
  <dcterms:modified xsi:type="dcterms:W3CDTF">2007-10-08T09:05:32Z</dcterms:modified>
  <cp:revision>3</cp:revision>
  <dc:subject/>
  <dc:title>Slide 1</dc:title>
</cp:coreProperties>
</file>